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C10A-1C3E-4002-AFFD-107A001D8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C17D-F541-4677-A8B7-1BB0ABF4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6C98-AE0B-43DC-9174-3EDB3CC6F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C05C-1782-4298-88E2-30B124089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A901-01F9-4315-8B61-5499674F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D6B1-E90C-41D0-BEF2-F7BEAE5C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89C8-0E9D-4C0E-B9EB-29677020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DC51-2BBB-4434-A85D-CAC09AD4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5825-DDC3-49E3-9A5E-471C84B1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C3E0-612F-460F-8991-E1CA1C6D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389A-717F-43BB-B6F8-A6EF559C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B5A4-4DFF-4F77-A14B-CCB468F1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D8FA-84CD-474D-8231-26DAA710A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2895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Now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-9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 can determine the point of view from which a story is to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rnie felt scared to go out so early, but Jack decided that going to the hardware store early might be helpf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5335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 wonder who’s been leaving flowers at the door of the hardware store. I wish I could find out if they were for me or St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rnie liked the idea of figuring out who was leaving flowers, and he hoped that Jack didn’t mind getting up so early to drive him ther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733920"/>
            <a:ext cx="28954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ad the passages to the right and determine the point of view of each. Use your not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with your partners from yester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re-read your story ALOU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your story make sen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point of view, mood, and the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HAVE 5 MINUTE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 Pie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 Pie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RJ: Point of View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From which point of view do you think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Treasure of Lemon Brow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s told from?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RAP!)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-Why would the author choose to write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from this point of vie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80060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ES FOR TEXT EVID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What pronouns do you see in the pie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Do you know the thoughts and feelings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characters or just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silent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Setting (Tag Map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Figurative Language &amp; Vocab (Tap Word Wall!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BOOKMARK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annotations are due by Monday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erences with Ms. Gill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d 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omplete, turn in to “In-Class” b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write RAP (if needed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your book or WRITE seeds if time allow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0:05:58Z</dcterms:created>
  <dc:creator>Parkway</dc:creator>
  <dc:description/>
  <dc:language>en-US</dc:language>
  <cp:lastModifiedBy>Administrator</cp:lastModifiedBy>
  <dcterms:modified xsi:type="dcterms:W3CDTF">2010-12-10T13:26:02Z</dcterms:modified>
  <cp:revision>6</cp:revision>
  <dc:subject/>
  <dc:title>Do Now  12-9    I can determine the point of view from which a story is told.</dc:title>
</cp:coreProperties>
</file>